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22C-D3F0-459D-A16C-470704C2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B2E-37D7-4D78-AADF-8F7E4C30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6A3-BDE2-42FD-BAD8-E4CFE3AE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949-7BA3-4A9E-BE8B-57822885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7D6-6738-4A31-8EA4-14C18334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83B-40C9-4120-9708-77D026EF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321-A4DD-4F0C-8B8F-751B25C6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1C6-7150-463E-85CA-5546DA74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51B-4D3C-4FC5-8A80-2FB3A512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667-DE4C-4BB9-BF97-5C92E746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CAE-F86F-4A3D-99C0-183A99B7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1CA-2101-4846-96DF-791DE9F8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7648-CA9C-4F48-9D11-F25B245BB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urmanout.ru/places/lenin" TargetMode="External"/><Relationship Id="rId2" Type="http://schemas.openxmlformats.org/officeDocument/2006/relationships/hyperlink" Target="http://bibliotekar.ru/encMore/63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ГБОУ СО «Школа-интернат АОП с. Широкий Буерак 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19047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резентация на тему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Мирный ат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огубова М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дряш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Первая атомная электростанция.  Обнинская в 1954 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Сибирская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Воронежская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Белоярская А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biography/petr-kapica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urmanout.ru/places/leni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ibliotekar.ru/encMore/63.ht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bninskaya-aes-pervaya-atomnaya-elektrostantsiya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Петр Кап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тр Леонидович Капица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ступая н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ъезде КПСС в 1956 году сказал о том, что атомная энергия может быть и должна использоваться не только в военных, но и в мирных целях. После этого началось развитие новых отраслей промыш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66cc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6000" spc="-1" strike="noStrike" u="sng">
                <a:solidFill>
                  <a:srgbClr val="3333cc"/>
                </a:solidFill>
                <a:uFillTx/>
                <a:latin typeface="Arial"/>
              </a:rPr>
              <a:t>Атомная промышл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Атомный ледокол «Лен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ledokol_lenin03"/>
          <p:cNvPicPr/>
          <p:nvPr/>
        </p:nvPicPr>
        <p:blipFill>
          <a:blip r:embed="rId1"/>
          <a:stretch/>
        </p:blipFill>
        <p:spPr>
          <a:xfrm>
            <a:off x="4648320" y="685800"/>
            <a:ext cx="4495680" cy="518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icture"/>
          <p:cNvPicPr/>
          <p:nvPr/>
        </p:nvPicPr>
        <p:blipFill>
          <a:blip r:embed="rId2"/>
          <a:stretch/>
        </p:blipFill>
        <p:spPr>
          <a:xfrm>
            <a:off x="0" y="685800"/>
            <a:ext cx="4648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Первая атомная подводная лод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6000" spc="-1" strike="noStrike" u="sng">
                <a:solidFill>
                  <a:srgbClr val="009900"/>
                </a:solidFill>
                <a:uFillTx/>
                <a:latin typeface="Arial"/>
              </a:rPr>
              <a:t>Атомная энерге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27T16:10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